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8.png" ContentType="image/png"/>
  <Override PartName="/ppt/media/image12.wmf" ContentType="image/x-wmf"/>
  <Override PartName="/ppt/media/image19.jpeg" ContentType="image/jpeg"/>
  <Override PartName="/ppt/media/image6.wmf" ContentType="image/x-wmf"/>
  <Override PartName="/ppt/media/image11.png" ContentType="image/pn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28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BB3-1D2E-4CD0-9787-40768C10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EFD-667A-4565-8AE0-F2872254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CA2-9E4A-403B-8BD8-C5FC27A4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AA1-FBF7-4191-84B6-78644452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F41-69DD-4F03-83B5-B6929611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DAE-F991-4CD2-B77F-CF743975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A36-910D-4F35-8045-3FCAFB95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252-403B-4BA6-B599-6705FFD2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635-5543-4F79-AA91-1BEA99C4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31D-12DB-4A65-B19F-D88B1653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397-48E9-4813-8590-395C4E22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B9F-4BFD-4019-8705-3A40F2D4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4D28-AD11-4525-BC3D-1FEC6FCCC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cmm.com/page/1182/good-practice-guidance-for-mining-and-biodiversity" TargetMode="External"/><Relationship Id="rId2" Type="http://schemas.openxmlformats.org/officeDocument/2006/relationships/hyperlink" Target="http://www.minerals.org.au/__data/assets/pdf_file/0016/33019/in_Rhiliion_nook.pdf" TargetMode="External"/><Relationship Id="rId3" Type="http://schemas.openxmlformats.org/officeDocument/2006/relationships/hyperlink" Target="http://www.dmp.wa.gov.au/documents/mine_rehab.pdf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ΝΙΣΧΥΣΗ ΤΗΣ ΒΙΟΠΟΙΚΙΛΟΤΗΤΑΣ ΚΑΤΑ ΤΗΝ</a:t>
            </a:r>
            <a:br>
              <a:rPr sz="3000"/>
            </a:b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ΟΚΑΤΑΣΤΑΣΗ </a:t>
            </a:r>
            <a:br>
              <a:rPr sz="3000"/>
            </a:b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ΕΤΑΛΛΕΙΩΝ ΚΑΙ ΛΑΤΟΜΕΙΩΝ ΣΤΗΝ ΚΥΠΡ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4286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περίπτωση Αμφιβίων και Ερπε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NEO MFIK Logo plagio GR"/>
          <p:cNvPicPr/>
          <p:nvPr/>
        </p:nvPicPr>
        <p:blipFill>
          <a:blip r:embed="rId1"/>
          <a:stretch/>
        </p:blipFill>
        <p:spPr>
          <a:xfrm>
            <a:off x="5576760" y="4576680"/>
            <a:ext cx="3567240" cy="2281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133720" y="4876920"/>
            <a:ext cx="3733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ρ Πέτρος Λυμπεράκ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φορος Συλλογών Σπονδυλωτ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AMIANDOS\Desktop\download.jpg"/>
          <p:cNvPicPr/>
          <p:nvPr/>
        </p:nvPicPr>
        <p:blipFill>
          <a:blip r:embed="rId2"/>
          <a:stretch/>
        </p:blipFill>
        <p:spPr>
          <a:xfrm>
            <a:off x="46483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Συνολική άποψ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πολύ μεγάλη ποικιλότητα που προέκυψε από τις προαναφερθείσες διαδικασίες (και άλλες που δεν γνωρίζομε ακόμη) κατέληξαν σε μια ερπετοπανίδα 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μοναδική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που έχει και τις ανάλογες 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διαχειριστικές απαιτήσει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6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1520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ίνδυνο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ε γενικές γραμμές η ερπετοπανίδα της Κύπρου δεν δέχεται σοβαρές άμεσες απειλ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εξαιρέσεις άμεσων σοβαρών απειλών όπως π.χ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trix natrix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uremys rivul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κυρίως, αλλά όχι μόνον) λόγω μικρού μεγέθους πληθυσμ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ύρια απειλή στην Κύπρο (αλλά και παγκοσμίως) είναι η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χαμηλού επιπέδου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λλά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διαρκ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και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αυξανόμεν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ff0000"/>
                </a:solidFill>
                <a:latin typeface="Arial"/>
              </a:rPr>
              <a:t>στέρηση χώρο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ό το φυσικό περιβάλλον και η ομογενοποίηση του χώρου ως υποπερίπτωση της στέρ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Χώρ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εχνικά, η στέρηση χώρου ονομάζεται καταστροφή – υποβάθμιση ενδιαιτημάτω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ύρια αιτία η διαρκής επέκταση των των ανθρώπινων δραστηριοτή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 δεν έχομε την (αλαζονική) θεώρηση ότι μπορούμε να ζήσομε χωρίς φυσικό περιβάλλον,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ρέπει, συντεταγμένα, να πάρομε </a:t>
            </a:r>
            <a:r>
              <a:rPr b="1" lang="el-GR" sz="2800" spc="-1" strike="noStrike">
                <a:solidFill>
                  <a:srgbClr val="0000ff"/>
                </a:solidFill>
                <a:latin typeface="Arial"/>
              </a:rPr>
              <a:t>αποφάσεις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(κατά βάση) </a:t>
            </a:r>
            <a:r>
              <a:rPr b="1" lang="el-GR" sz="2800" spc="-1" strike="noStrike">
                <a:solidFill>
                  <a:srgbClr val="0000ff"/>
                </a:solidFill>
                <a:latin typeface="Arial"/>
              </a:rPr>
              <a:t>χωροταξικού χαρακτήρα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το διαφυλάξομε, να το βελτιώσομε και να το αυξήσο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γάλη σημασία έχουν και οι 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μικρές τοπικές επεμβάσει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ξορύξεις: (Λατομεία – Μεταλλεί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Το πρόβλημα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: οι εξορύξεις υποβαθμίζουν το χώρο δημιουργώντας μια </a:t>
            </a:r>
            <a:r>
              <a:rPr b="0" lang="el-GR" sz="3000" spc="-1" strike="noStrike">
                <a:solidFill>
                  <a:srgbClr val="0000ff"/>
                </a:solidFill>
                <a:latin typeface="Arial"/>
              </a:rPr>
              <a:t>ομογενοποιημένη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«έρημο». Μπορούμε να δούμε τέσσερεις κατηγορίες λύσε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ff"/>
                </a:solidFill>
                <a:latin typeface="Arial"/>
              </a:rPr>
              <a:t>Πρόληψ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Σε υφιστάμενες, εξαντλημένες εξορύξεις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ff"/>
                </a:solidFill>
                <a:latin typeface="Arial"/>
              </a:rPr>
              <a:t>Μηδενική λύση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(φυσική αποκατάσταση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ff"/>
                </a:solidFill>
                <a:latin typeface="Arial"/>
              </a:rPr>
              <a:t>Χωροθέτηση άλλης οχλούσας δραστηριότητ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ff"/>
                </a:solidFill>
                <a:latin typeface="Arial"/>
              </a:rPr>
              <a:t>Αποκατάστασ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ξορύξεις – κατηγορίες λύσε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Πρόληψη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φάση της αποκατάστασης έχει προβλεφθεί και σχεδιαστεί ΠΡΙΝ την έναρξη της εκμετάλλευσης. Δράσεις αποκατάστασης γίνονται ταυτόχρονα με τη λειτουργία του έργο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ε υφιστάμενες, εξαντλημένες εξορύξει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Μηδενική λύσ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άν αφεθούν σε φυσική επανάκαμψη αυτή θα πάρει πάρα πολλά χρόνια (σε κάποιες περιπτώσεις δεκαετίες έως αιώνες...) και ποτέ δεν θα φτάσει σε επιθυμητό βαθμό ετερογένει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Χωροθέτηση άλλης οχλούσας δραστηριότητ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Αποκατάστασ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= άρση του προβλήματος της ομογενοποίησης =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Ποικιλότη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μογενοποίηση – έρημος – στέρηση χώρο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ndrolykou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μογενοποίηση – έρημος – στέρηση χώρο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pend 15"/>
          <p:cNvPicPr/>
          <p:nvPr/>
        </p:nvPicPr>
        <p:blipFill>
          <a:blip r:embed="rId1"/>
          <a:stretch/>
        </p:blipFill>
        <p:spPr>
          <a:xfrm>
            <a:off x="114300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μογενοποίηση – έρημος – στέρηση χώρο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a8iatis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οικιλότητ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«Δημιουργία» ετερογένειας: στόχος η διαμόρφωση συνθηκών για την επίτευξη της μέγιστης ποικιλ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ηχανικά (σε μέγα- και μίκρο- επίπεδ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Βιοποικιλότητα: Άμεσο πεδίο παρέμβασης οι φυτεύσεις. Ποιά φυτά, σε ποιές ποσότητες και διατάξεις. Συνάφεια με την γύρω περιοχ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Βιοποικιλότητα - Μεσόγει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631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ποκατάσταση και «Αποκατάσταση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enviroment_2011_1m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2489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4038480" y="1752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μογενοποιημένη έρημος με φυτ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28600" y="5562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(σχεδόν) επιθυμητή εικ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terrace_737x594"/>
          <p:cNvPicPr/>
          <p:nvPr/>
        </p:nvPicPr>
        <p:blipFill>
          <a:blip r:embed="rId2"/>
          <a:stretch/>
        </p:blipFill>
        <p:spPr>
          <a:xfrm>
            <a:off x="4343400" y="3200400"/>
            <a:ext cx="41194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άθετα πραν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μεγαλύτερη δυσκολία στην αποκατάστα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ηχανική: αποθέσεις υλικώ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ή άλλος τρόπος) για το «σπάσιμο» της συνέχει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υτεύσεις: Δύσκολες αλλά αναγκαί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Ιδανικ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προσομοίωση πλευράς φαραγγιού τόσο στην ποικιλότητα των φυτών όσο και στη διασπορά του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ικιλότητα σε μίκρο επίπεδο: Πώ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Ποικιλία (απλών) μέσ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Σωροί από πέτρ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Με ή χωρίς ξύ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Διάφορα μεγέθη πετρών - ξύλ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Λιγότερο η περισσότερο δομημέν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Ποικίλα σχήματα, μεγέθη και προσανατολισμο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Λακκούβες (απλά σκαψίματα ή/και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νδυασμός με πετροσωρού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- Ποικιλία συνοδευτικών φυτεύσεων (σαφής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οτίμηση σε αγγειόσπερμ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ετροσωρο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anonchetmound"/>
          <p:cNvPicPr/>
          <p:nvPr/>
        </p:nvPicPr>
        <p:blipFill>
          <a:blip r:embed="rId1"/>
          <a:stretch/>
        </p:blipFill>
        <p:spPr>
          <a:xfrm>
            <a:off x="457200" y="121932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AIRN+3+WEST+ELEVATION"/>
          <p:cNvPicPr/>
          <p:nvPr/>
        </p:nvPicPr>
        <p:blipFill>
          <a:blip r:embed="rId2"/>
          <a:stretch/>
        </p:blipFill>
        <p:spPr>
          <a:xfrm>
            <a:off x="457200" y="4191120"/>
            <a:ext cx="317664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Northern Montana rock pile with the Sweet Grass Hills in the distance"/>
          <p:cNvPicPr/>
          <p:nvPr/>
        </p:nvPicPr>
        <p:blipFill>
          <a:blip r:embed="rId3"/>
          <a:stretch/>
        </p:blipFill>
        <p:spPr>
          <a:xfrm>
            <a:off x="4724280" y="39625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HG20021124-016"/>
          <p:cNvPicPr/>
          <p:nvPr/>
        </p:nvPicPr>
        <p:blipFill>
          <a:blip r:embed="rId4"/>
          <a:stretch/>
        </p:blipFill>
        <p:spPr>
          <a:xfrm>
            <a:off x="4800600" y="1143000"/>
            <a:ext cx="39625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 σε εξεζητημένη μορφή </a:t>
            </a:r>
            <a:br>
              <a:rPr sz="40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ελλείψει καταλληλότερων φωτογραφιώ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Landscaping-With-Rocks-With-Wood-Walls"/>
          <p:cNvPicPr/>
          <p:nvPr/>
        </p:nvPicPr>
        <p:blipFill>
          <a:blip r:embed="rId1"/>
          <a:stretch/>
        </p:blipFill>
        <p:spPr>
          <a:xfrm>
            <a:off x="4952880" y="1371600"/>
            <a:ext cx="3810240" cy="2855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wood pile"/>
          <p:cNvPicPr/>
          <p:nvPr/>
        </p:nvPicPr>
        <p:blipFill>
          <a:blip r:embed="rId2"/>
          <a:stretch/>
        </p:blipFill>
        <p:spPr>
          <a:xfrm>
            <a:off x="304920" y="1371600"/>
            <a:ext cx="4248000" cy="2381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deas for landscaping a pond"/>
          <p:cNvPicPr/>
          <p:nvPr/>
        </p:nvPicPr>
        <p:blipFill>
          <a:blip r:embed="rId3"/>
          <a:stretch/>
        </p:blipFill>
        <p:spPr>
          <a:xfrm>
            <a:off x="5105520" y="4343400"/>
            <a:ext cx="3429000" cy="227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landpond1"/>
          <p:cNvPicPr/>
          <p:nvPr/>
        </p:nvPicPr>
        <p:blipFill>
          <a:blip r:embed="rId4"/>
          <a:stretch/>
        </p:blipFill>
        <p:spPr>
          <a:xfrm>
            <a:off x="380880" y="4191120"/>
            <a:ext cx="37530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Χρόν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38052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ποια κατασκευή και να γίνει απαιτεί χρόνο «ωρίμανση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εν θα υιοθετηθούν άμεσα από τα ζώ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άποια είδη θα έρθουν αργότερα από άλ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νάρτηση και με την ανάπτυξη της βλάστ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ANd9GcRU_tQfm2VhqrCuaDhHmr5wcV2gEKELy3IyahdtLzodBx-uAf25Gg"/>
          <p:cNvPicPr/>
          <p:nvPr/>
        </p:nvPicPr>
        <p:blipFill>
          <a:blip r:embed="rId1"/>
          <a:stretch/>
        </p:blipFill>
        <p:spPr>
          <a:xfrm>
            <a:off x="228600" y="1143000"/>
            <a:ext cx="3657600" cy="274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CollegeRockPAN6"/>
          <p:cNvPicPr/>
          <p:nvPr/>
        </p:nvPicPr>
        <p:blipFill>
          <a:blip r:embed="rId2"/>
          <a:stretch/>
        </p:blipFill>
        <p:spPr>
          <a:xfrm>
            <a:off x="1276200" y="4191120"/>
            <a:ext cx="7715520" cy="2597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1522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Πρι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04920" y="5029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Μετ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5335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ακολούθηση είναι κρίσιμη δράση για δύο λόγου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ακολούθηση της εφαρμογής του σχεδίου. Αντίδραση σε αποτυχίες/αστοχίες. Αναθεώρηση και επιδιορθωτικές επεμβά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δράση αποτελεί οικολογικό πείραμα: Η καταγραφή της πορείας εξέλιξης της βιοποικιλότητας στους χώρους παρέμβασης (με ειδικές διαδικασίες για μικρές και άλλες για μεγάλες παρεμβάσεις) μπορούν να δώσουν πολύτιμα στοιχεία. Συνεργασία με Πανεπιστήμιο (ή/και Ερπετολογικό Σύνδεσμ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αρακολούθη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νδεικτικές πηγέ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ποκατάσταση εξορύξ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cm good practices guidance mining metal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cmm.com/page/1182/good-practice-guidance-for-mining-and-biodivers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Rehabilitation Handbook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inerals.org.au/__data/assets/pdf_file/0016/33019/in_Rhiliion_nook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rehabilit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mp.wa.gov.au/documents/mine_rehab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μφίβια και Ερπετά της Κύπρ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ικολάου, Χ., Παφίλης, Π., Λυμπεράκης Π. 2014. Τα Ερπετά και τα Αμφίβια της Κύπρου.Ερπετολογικός σύνδεσμος Κύπρου 240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Poulakakis, N., Kapli, P., Kardamaki, A., Skourtanioti, E., Göçmen, B., Ilgaz, C., Kumlutas, Y., Av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., Lymberakis, P. (2013). Comparative phylogeography of six herpetofauna species in Cyprus: 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iocene to Pleistocene colonization routes. Biological Journal of the Linnean Society 108:619-63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(βιογεωγραφικά)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«νησιά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Trebuchet MS"/>
              </a:rPr>
              <a:t>Βουνοκορφές</a:t>
            </a:r>
            <a:r>
              <a:rPr b="0" lang="el-GR" sz="36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Υψηλός ενδημισμός και ιδιαιτερότητες λόγω παγετωδών του Πλειστόκαιν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Trebuchet MS"/>
              </a:rPr>
              <a:t>Υγρότοποι</a:t>
            </a: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: αλληλεπίδραση διαφορετικών κόσμων (ιδίως στις εκβολές των ποταμώ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Trebuchet MS"/>
              </a:rPr>
              <a:t>Νησιά</a:t>
            </a:r>
            <a:r>
              <a:rPr b="0" lang="el-GR" sz="3200" spc="-1" strike="noStrike">
                <a:solidFill>
                  <a:srgbClr val="000000"/>
                </a:solidFill>
                <a:latin typeface="Trebuchet MS"/>
              </a:rPr>
              <a:t> (ξηρά και θαλάσσιο οικοσύστημ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Λίγη Ιστορί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λετώντας την ερπετοπανίδα στη Μεσόγειο συναντάμε τρία μεγάλα γεγονότα που την έχουν καθορίσ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ρίση αλατότητας του Μεσσηνίου (λίγη επίδραση στην Κύπρ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ναλλαγή παγετωδών – μεσοπαγετωδών (Αφίξεις νέων ειδώ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Άφιξη του ανθρώπου (άφιξη ειδών που μετέφερε ο άνθρωπο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 αίνιγμα της Κύπρο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Κύπρος είναι (κατά τη βιογεωγραφία) ωκεάνιο νησί, δηλαδή δεν υπήρξε τμήμα γειτονικής χέρσου αλλά αναδύθηκ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κανόνας για αυτά τα νησιά είναι η φτωχή πανί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Κύπρος έχει πολύ πλούσια ερπετοπανίδα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παρά κάποιες ανεξήγητες απουσίες π.χ. Χερσαίες χελώνες ή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irenis modes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Testudo_hermanni_hermanni_Mallorca_02"/>
          <p:cNvPicPr/>
          <p:nvPr/>
        </p:nvPicPr>
        <p:blipFill>
          <a:blip r:embed="rId1"/>
          <a:stretch/>
        </p:blipFill>
        <p:spPr>
          <a:xfrm>
            <a:off x="5410080" y="1371600"/>
            <a:ext cx="3353040" cy="251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EireniStefDum"/>
          <p:cNvPicPr/>
          <p:nvPr/>
        </p:nvPicPr>
        <p:blipFill>
          <a:blip r:embed="rId2"/>
          <a:stretch/>
        </p:blipFill>
        <p:spPr>
          <a:xfrm>
            <a:off x="5486400" y="4114800"/>
            <a:ext cx="3429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νώθηκε ή όχι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εγάλη συζήτηση για το αν υπήρξε ή όχι ποτέ ενωμέν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Ομάδα του ΜΦΙΚ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ulakakis et al. 2013)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ελέτησε το συγκεκριμένο ερώτημα και κατέληξε ότι είναι </a:t>
            </a:r>
            <a:r>
              <a:rPr b="0" lang="el-GR" sz="2800" spc="-1" strike="noStrike">
                <a:solidFill>
                  <a:srgbClr val="0000ff"/>
                </a:solidFill>
                <a:latin typeface="Calibri"/>
              </a:rPr>
              <a:t>πιθανό να υπήρξε μια εφήμερη σύνδεση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κατά τη διάρκεια της ΚΑ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679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δη που προϋπήρχαν ή διαφοροποιήθηκαν κατά την ΚΑ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0765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066680" y="55627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Άλλες περιπτώσει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oenicolacerta troodica ? Hierophis cypriensi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2712960" cy="33530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472428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yphlops vermicu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063960" cy="3121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δη που έφτασαν στο νησί μετά την ΚΑ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103480" cy="29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3703680" cy="348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4"/>
          <a:stretch/>
        </p:blipFill>
        <p:spPr>
          <a:xfrm>
            <a:off x="2743200" y="1523880"/>
            <a:ext cx="1952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δη που πιθανότατα ήρθαν με τον άνθρωπ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419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cides ocellatus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λυάστ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midactylus turcicus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αμιαμίδ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halcides_ocellatus"/>
          <p:cNvPicPr/>
          <p:nvPr/>
        </p:nvPicPr>
        <p:blipFill>
          <a:blip r:embed="rId1"/>
          <a:stretch/>
        </p:blipFill>
        <p:spPr>
          <a:xfrm>
            <a:off x="5105520" y="160020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_turcicus_Peloponnesos_Greece_9605_LB1"/>
          <p:cNvPicPr/>
          <p:nvPr/>
        </p:nvPicPr>
        <p:blipFill>
          <a:blip r:embed="rId2"/>
          <a:stretch/>
        </p:blipFill>
        <p:spPr>
          <a:xfrm>
            <a:off x="5029200" y="4208400"/>
            <a:ext cx="3962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09:42:00Z</dcterms:created>
  <dc:creator>pepe</dc:creator>
  <dc:description/>
  <dc:language>en-US</dc:language>
  <cp:lastModifiedBy>AMIANDOS</cp:lastModifiedBy>
  <dcterms:modified xsi:type="dcterms:W3CDTF">2014-12-05T09:31:37Z</dcterms:modified>
  <cp:revision>28</cp:revision>
  <dc:subject/>
  <dc:title>Ερπετά Λατομεία</dc:title>
</cp:coreProperties>
</file>